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511E-B05F-4145-AF29-BE7FB5B43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090C-C727-4DDE-BAD4-369E5E7AD5BE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C8A2-967D-497E-8A34-FF225A4A1221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EF32-3303-4AF1-9A02-409E6EB24A39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F41C-648D-4060-A20D-B92CAA0842DF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B221-44DD-4707-8A26-BA9A681C095A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A846-FD7D-428F-92F0-4F9C49E89994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BB16-741B-40A5-A098-C9379184C1C6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A16-8766-4276-BD9A-1474363A5A23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E596-E63F-4C3C-99FC-9E3CBCC04BD2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48D6-7620-469F-9D57-D2D096CC9C36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0861-61DF-4939-81EF-953801889FFE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C575-CE98-4B7F-91F8-123263E4BCF1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B0F5-9A13-406E-820F-338770AF5659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F1A4-FC31-43D0-A146-47FDF75CD55A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BAB9-E860-436C-9601-6490F17EBF40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3C96-7632-43B2-A361-090FE6AABEEC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E871-3515-4562-AF2C-6148BDB7196F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8506-8D48-4279-8087-02A0E3BDAFEE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F192-8BE6-47AF-9CE1-EB43A65D53FC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AA35-8477-4FFA-9A07-6400D39A22BB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E353-003F-410D-856E-ECB1127F9BD5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DE00-26EB-438B-975A-BEC35D0DF054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59D4-0E40-40A5-A0D4-07EC6D9E96DE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5333-8C9D-4A93-9208-50845F7F578D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5BA6-801F-4BBB-AEE0-46D6DD93C5A9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64C9-913B-41C2-B78D-F0FAF487762E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D18A-45E5-44BB-9596-7266287DC796}" type="slidenum">
              <a:rPr b="0" lang="ru-RU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68C-AE58-4203-A7F3-E8EF380B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A61-95A9-485E-8657-3284177F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2C8-9ED8-40B5-8D40-F6546F8A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022-A675-4243-8623-44C4B383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8278-0FF1-4243-835F-CABE64C9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DDC2-90E4-420D-920E-E76391F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04D7-B03F-44CE-854C-2873B1D7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6C39-F36C-41CB-A708-2825FF13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4AF1-8E08-400A-BE30-C2B60984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1A9F-A33B-4062-A867-207F52EC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4BD6-F0FA-4DE9-9C9B-823450BD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D83-03D5-4D70-B8F6-430595A8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6637-10C6-40A6-A89B-0829AA3E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E0D4-19C4-4F6C-B53C-088859BC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48D0-B8CD-4BC3-9048-8252C091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CC8A-F1E1-432F-8162-C65AC1BF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BB69-D564-4E43-BE86-A5CD80C0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94D-4683-44E1-B4F6-13C727E5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4E5-B8E0-4635-AB4F-F6A1BB30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151-DB68-4105-A37C-67AE2955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357-E205-4C15-995C-F5873B58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D4F-1245-49C2-8102-2A6DDDB6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2C4-8D71-4568-8E2D-A540A9C5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741-04F0-49C9-9FF2-30117C7E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BDC-06BD-4C23-AA59-10832D58F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3DD1-62FD-4A3B-8F00-5A81D4947A48}" type="slidenum">
              <a:rPr b="0" lang="en-US" sz="1200" spc="-1" strike="noStrike">
                <a:solidFill>
                  <a:srgbClr val="faf9e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&#1087;...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9.xml"/><Relationship Id="rId12" Type="http://schemas.openxmlformats.org/officeDocument/2006/relationships/slide" Target="slide&#1082;....xml"/><Relationship Id="rId13" Type="http://schemas.openxmlformats.org/officeDocument/2006/relationships/slide" Target="slide10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&#1082;&#1083;&#1102;....xml"/><Relationship Id="rId17" Type="http://schemas.openxmlformats.org/officeDocument/2006/relationships/slide" Target="slide13.xml"/><Relationship Id="rId18" Type="http://schemas.openxmlformats.org/officeDocument/2006/relationships/slide" Target="slide14.xml"/><Relationship Id="rId19" Type="http://schemas.openxmlformats.org/officeDocument/2006/relationships/slide" Target="slide12.xml"/><Relationship Id="rId20" Type="http://schemas.openxmlformats.org/officeDocument/2006/relationships/slide" Target="slide&#1076;&#1083;&#1103;....xml"/><Relationship Id="rId21" Type="http://schemas.openxmlformats.org/officeDocument/2006/relationships/slide" Target="slide16.xml"/><Relationship Id="rId22" Type="http://schemas.openxmlformats.org/officeDocument/2006/relationships/slide" Target="slide17.xml"/><Relationship Id="rId23" Type="http://schemas.openxmlformats.org/officeDocument/2006/relationships/slide" Target="slide18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3.xml"/><Relationship Id="rId27" Type="http://schemas.openxmlformats.org/officeDocument/2006/relationships/slide" Target="slide22.xml"/><Relationship Id="rId28" Type="http://schemas.openxmlformats.org/officeDocument/2006/relationships/slide" Target="slide4.xml"/><Relationship Id="rId29" Type="http://schemas.openxmlformats.org/officeDocument/2006/relationships/slide" Target="slide&#1074;&#1099;?.xml"/><Relationship Id="rId30" Type="http://schemas.openxmlformats.org/officeDocument/2006/relationships/slide" Target="slide5.xml"/><Relationship Id="rId31" Type="http://schemas.openxmlformats.org/officeDocument/2006/relationships/slide" Target="slide24.xml"/><Relationship Id="rId32" Type="http://schemas.openxmlformats.org/officeDocument/2006/relationships/slide" Target="slide7.xml"/><Relationship Id="rId33" Type="http://schemas.openxmlformats.org/officeDocument/2006/relationships/slide" Target="slide20.xml"/><Relationship Id="rId34" Type="http://schemas.openxmlformats.org/officeDocument/2006/relationships/slide" Target="slide6.xml"/><Relationship Id="rId35" Type="http://schemas.openxmlformats.org/officeDocument/2006/relationships/slide" Target="slide25.xml"/><Relationship Id="rId36" Type="http://schemas.openxmlformats.org/officeDocument/2006/relationships/slide" Target="slide4.xml"/><Relationship Id="rId37" Type="http://schemas.openxmlformats.org/officeDocument/2006/relationships/slide" Target="slide5.xml"/><Relationship Id="rId38" Type="http://schemas.openxmlformats.org/officeDocument/2006/relationships/slide" Target="slide10.xml"/><Relationship Id="rId39" Type="http://schemas.openxmlformats.org/officeDocument/2006/relationships/slide" Target="slide11.xml"/><Relationship Id="rId40" Type="http://schemas.openxmlformats.org/officeDocument/2006/relationships/slide" Target="slide6.xml"/><Relationship Id="rId41" Type="http://schemas.openxmlformats.org/officeDocument/2006/relationships/slide" Target="slide7.xml"/><Relationship Id="rId42" Type="http://schemas.openxmlformats.org/officeDocument/2006/relationships/slide" Target="slide8.xml"/><Relationship Id="rId43" Type="http://schemas.openxmlformats.org/officeDocument/2006/relationships/slide" Target="slide14.xml"/><Relationship Id="rId44" Type="http://schemas.openxmlformats.org/officeDocument/2006/relationships/slide" Target="slide13.xml"/><Relationship Id="rId45" Type="http://schemas.openxmlformats.org/officeDocument/2006/relationships/slide" Target="slide12.xml"/><Relationship Id="rId46" Type="http://schemas.openxmlformats.org/officeDocument/2006/relationships/slide" Target="slide20.xml"/><Relationship Id="rId47" Type="http://schemas.openxmlformats.org/officeDocument/2006/relationships/slide" Target="slide19.xml"/><Relationship Id="rId48" Type="http://schemas.openxmlformats.org/officeDocument/2006/relationships/slide" Target="slide18.xml"/><Relationship Id="rId49" Type="http://schemas.openxmlformats.org/officeDocument/2006/relationships/slide" Target="slide17.xml"/><Relationship Id="rId50" Type="http://schemas.openxmlformats.org/officeDocument/2006/relationships/slide" Target="slide16.xml"/><Relationship Id="rId51" Type="http://schemas.openxmlformats.org/officeDocument/2006/relationships/slide" Target="slide22.xml"/><Relationship Id="rId52" Type="http://schemas.openxmlformats.org/officeDocument/2006/relationships/slide" Target="slide23.xml"/><Relationship Id="rId53" Type="http://schemas.openxmlformats.org/officeDocument/2006/relationships/slide" Target="slide24.xml"/><Relationship Id="rId54" Type="http://schemas.openxmlformats.org/officeDocument/2006/relationships/slide" Target="slide25.xml"/><Relationship Id="rId55" Type="http://schemas.openxmlformats.org/officeDocument/2006/relationships/slide" Target="slide20.xml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2502000" y="1854360"/>
            <a:ext cx="4159080" cy="31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f9e6"/>
                </a:solidFill>
                <a:latin typeface="Bookman Old Style"/>
              </a:rPr>
              <a:t>II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af9e6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af9e6"/>
                </a:solidFill>
                <a:latin typeface="Bookman Old Style"/>
              </a:rPr>
              <a:t>раун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af9e6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91736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Shift+</a:t>
            </a:r>
            <a:r>
              <a:rPr b="0" lang="ru-RU" sz="4400" spc="-1" strike="noStrike">
                <a:solidFill>
                  <a:srgbClr val="eadc78"/>
                </a:solidFill>
                <a:latin typeface="Arial"/>
              </a:rPr>
              <a:t>буква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37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Сочетание клавиш                                            1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8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Alt+F4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0" name="Rectangle 4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Сочетание клавиш                                             2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1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2356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dc78"/>
                </a:solidFill>
                <a:latin typeface="Arial"/>
              </a:rPr>
              <a:t>Ctrl+Inser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3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Сочетание клавиш                                             3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4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95560"/>
            <a:ext cx="8229600" cy="26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dc78"/>
                </a:solidFill>
                <a:latin typeface="Arial"/>
              </a:rPr>
              <a:t>Ctrl+U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6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Сочетание клавиш                                             4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47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13156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trl+N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49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Сочетание клавиш                                             5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Счетное механическое устройство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2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Устройства                                                        1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3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858680"/>
            <a:ext cx="8229600" cy="33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Устройство, преобразующее дискретные сигналы в непрерывные и обратно для передачи их по линии связи аналогового типа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5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Устройства                                                         2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6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97160"/>
            <a:ext cx="822960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Основной компонент ЭВМ первого поколения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58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Устройства                                                        3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93720"/>
            <a:ext cx="8229600" cy="18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Универсальный инструмент для обработки информации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61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Устройства                                                         4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3900600" y="1868400"/>
            <a:ext cx="90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1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1" name="Rectangle 3">
            <a:hlinkClick r:id="rId3" action="ppaction://hlinksldjump"/>
          </p:cNvPr>
          <p:cNvSpPr/>
          <p:nvPr/>
        </p:nvSpPr>
        <p:spPr>
          <a:xfrm>
            <a:off x="4896000" y="1868400"/>
            <a:ext cx="90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4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2" name="Rectangle 4">
            <a:hlinkClick r:id="rId5" action="ppaction://hlinksldjump"/>
          </p:cNvPr>
          <p:cNvSpPr/>
          <p:nvPr/>
        </p:nvSpPr>
        <p:spPr>
          <a:xfrm>
            <a:off x="5878440" y="1868400"/>
            <a:ext cx="90036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3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6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3" name="Rectangle 5">
            <a:hlinkClick r:id="rId7" action="ppaction://hlinksldjump"/>
          </p:cNvPr>
          <p:cNvSpPr/>
          <p:nvPr/>
        </p:nvSpPr>
        <p:spPr>
          <a:xfrm>
            <a:off x="7905600" y="1868400"/>
            <a:ext cx="1016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8" action="ppaction://hlinksldjump"/>
              </a:rPr>
              <a:t>5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4" name="Rectangle 6">
            <a:hlinkClick r:id="rId9" action="ppaction://hlinksldjump"/>
          </p:cNvPr>
          <p:cNvSpPr/>
          <p:nvPr/>
        </p:nvSpPr>
        <p:spPr>
          <a:xfrm>
            <a:off x="6853320" y="1868400"/>
            <a:ext cx="988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4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0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5" name="Rectangle 7">
            <a:hlinkClick r:id="rId11" action="ppaction://hlinksldjump"/>
          </p:cNvPr>
          <p:cNvSpPr/>
          <p:nvPr/>
        </p:nvSpPr>
        <p:spPr>
          <a:xfrm>
            <a:off x="3916440" y="2695680"/>
            <a:ext cx="90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1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2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6" name="Rectangle 8">
            <a:hlinkClick r:id="rId13" action="ppaction://hlinksldjump"/>
          </p:cNvPr>
          <p:cNvSpPr/>
          <p:nvPr/>
        </p:nvSpPr>
        <p:spPr>
          <a:xfrm>
            <a:off x="4886280" y="2695680"/>
            <a:ext cx="90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4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7" name="Rectangle 9">
            <a:hlinkClick r:id="rId15" action="ppaction://hlinksldjump"/>
          </p:cNvPr>
          <p:cNvSpPr/>
          <p:nvPr/>
        </p:nvSpPr>
        <p:spPr>
          <a:xfrm>
            <a:off x="5869080" y="2695680"/>
            <a:ext cx="90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3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6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8" name="Rectangle 10">
            <a:hlinkClick r:id="rId17" action="ppaction://hlinksldjump"/>
          </p:cNvPr>
          <p:cNvSpPr/>
          <p:nvPr/>
        </p:nvSpPr>
        <p:spPr>
          <a:xfrm>
            <a:off x="7896240" y="2695680"/>
            <a:ext cx="99684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8" action="ppaction://hlinksldjump"/>
              </a:rPr>
              <a:t>5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9" name="Rectangle 11">
            <a:hlinkClick r:id="rId19" action="ppaction://hlinksldjump"/>
          </p:cNvPr>
          <p:cNvSpPr/>
          <p:nvPr/>
        </p:nvSpPr>
        <p:spPr>
          <a:xfrm>
            <a:off x="6843600" y="2695680"/>
            <a:ext cx="989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4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0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925800" y="3524400"/>
            <a:ext cx="90036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1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1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886280" y="3524400"/>
            <a:ext cx="90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2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5869080" y="3524400"/>
            <a:ext cx="90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3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3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7896240" y="3524400"/>
            <a:ext cx="1015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4" action="ppaction://hlinksldjump"/>
              </a:rPr>
              <a:t>5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6843600" y="3524400"/>
            <a:ext cx="98928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4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5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5" name="Rectangle 17">
            <a:hlinkClick r:id="rId26" action="ppaction://hlinksldjump"/>
          </p:cNvPr>
          <p:cNvSpPr/>
          <p:nvPr/>
        </p:nvSpPr>
        <p:spPr>
          <a:xfrm>
            <a:off x="3925800" y="4316400"/>
            <a:ext cx="90036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1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7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6" name="Rectangle 18">
            <a:hlinkClick r:id="rId28" action="ppaction://hlinksldjump"/>
          </p:cNvPr>
          <p:cNvSpPr/>
          <p:nvPr/>
        </p:nvSpPr>
        <p:spPr>
          <a:xfrm>
            <a:off x="4884840" y="4316400"/>
            <a:ext cx="90000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9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7" name="Rectangle 19">
            <a:hlinkClick r:id="rId30" action="ppaction://hlinksldjump"/>
          </p:cNvPr>
          <p:cNvSpPr/>
          <p:nvPr/>
        </p:nvSpPr>
        <p:spPr>
          <a:xfrm>
            <a:off x="5867280" y="4316400"/>
            <a:ext cx="90036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3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31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8" name="Rectangle 20">
            <a:hlinkClick r:id="rId32" action="ppaction://hlinksldjump"/>
          </p:cNvPr>
          <p:cNvSpPr/>
          <p:nvPr/>
        </p:nvSpPr>
        <p:spPr>
          <a:xfrm>
            <a:off x="7894800" y="4316400"/>
            <a:ext cx="1015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33" action="ppaction://hlinksldjump"/>
              </a:rPr>
              <a:t>5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9" name="Rectangle 21">
            <a:hlinkClick r:id="rId34" action="ppaction://hlinksldjump"/>
          </p:cNvPr>
          <p:cNvSpPr/>
          <p:nvPr/>
        </p:nvSpPr>
        <p:spPr>
          <a:xfrm>
            <a:off x="6842160" y="4316400"/>
            <a:ext cx="988920" cy="647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Bookman Old Style"/>
              </a:rPr>
              <a:t>4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35" action="ppaction://hlinksldjump"/>
              </a:rPr>
              <a:t>00</a:t>
            </a:r>
            <a:endParaRPr b="0" lang="en-US" sz="30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05560" y="2003400"/>
            <a:ext cx="295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af9e6"/>
                </a:solidFill>
                <a:latin typeface="Bookman Old Style"/>
              </a:rPr>
              <a:t>Антианаграммы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196920" y="2779560"/>
            <a:ext cx="337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9e6"/>
                </a:solidFill>
                <a:latin typeface="Bookman Old Style"/>
              </a:rPr>
              <a:t>Сочетание клавиш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235080" y="364824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9e6"/>
                </a:solidFill>
                <a:latin typeface="Bookman Old Style"/>
              </a:rPr>
              <a:t>Устройства</a:t>
            </a:r>
            <a:endParaRPr b="0" lang="en-US" sz="24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171360" y="4363920"/>
            <a:ext cx="359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9e6"/>
                </a:solidFill>
                <a:latin typeface="Bookman Old Style"/>
              </a:rPr>
              <a:t>Как на</a:t>
            </a:r>
            <a:r>
              <a:rPr b="1" lang="en-US" sz="2500" spc="-1" strike="noStrike">
                <a:solidFill>
                  <a:srgbClr val="faf9e6"/>
                </a:solidFill>
                <a:latin typeface="Times New Roman"/>
              </a:rPr>
              <a:t>з</a:t>
            </a:r>
            <a:r>
              <a:rPr b="1" lang="en-US" sz="2500" spc="-1" strike="noStrike">
                <a:solidFill>
                  <a:srgbClr val="faf9e6"/>
                </a:solidFill>
                <a:latin typeface="Bookman Old Style"/>
              </a:rPr>
              <a:t>ывают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216000" y="2624040"/>
            <a:ext cx="8604000" cy="0"/>
          </a:xfrm>
          <a:prstGeom prst="line">
            <a:avLst/>
          </a:prstGeom>
          <a:ln w="381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6000" y="3416400"/>
            <a:ext cx="8604000" cy="0"/>
          </a:xfrm>
          <a:prstGeom prst="line">
            <a:avLst/>
          </a:prstGeom>
          <a:ln w="381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6" name="Line 40"/>
          <p:cNvSpPr/>
          <p:nvPr/>
        </p:nvSpPr>
        <p:spPr>
          <a:xfrm>
            <a:off x="250920" y="4243320"/>
            <a:ext cx="8604000" cy="0"/>
          </a:xfrm>
          <a:prstGeom prst="line">
            <a:avLst/>
          </a:prstGeom>
          <a:ln w="381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7" name="Line 41"/>
          <p:cNvSpPr/>
          <p:nvPr/>
        </p:nvSpPr>
        <p:spPr>
          <a:xfrm>
            <a:off x="250920" y="5035680"/>
            <a:ext cx="8604000" cy="0"/>
          </a:xfrm>
          <a:prstGeom prst="line">
            <a:avLst/>
          </a:prstGeom>
          <a:ln w="38160">
            <a:solidFill>
              <a:srgbClr val="faf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8" name="Rectangle 44">
            <a:hlinkClick r:id="rId36" action="ppaction://hlinksldjump"/>
          </p:cNvPr>
          <p:cNvSpPr/>
          <p:nvPr/>
        </p:nvSpPr>
        <p:spPr>
          <a:xfrm>
            <a:off x="3897360" y="2344680"/>
            <a:ext cx="85392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9" name="Rectangle 45">
            <a:hlinkClick r:id="rId37" action="ppaction://hlinksldjump"/>
          </p:cNvPr>
          <p:cNvSpPr/>
          <p:nvPr/>
        </p:nvSpPr>
        <p:spPr>
          <a:xfrm>
            <a:off x="4929120" y="2344680"/>
            <a:ext cx="85428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0" name="Rectangle 46">
            <a:hlinkClick r:id="rId38" action="ppaction://hlinksldjump"/>
          </p:cNvPr>
          <p:cNvSpPr/>
          <p:nvPr/>
        </p:nvSpPr>
        <p:spPr>
          <a:xfrm>
            <a:off x="3941640" y="3198960"/>
            <a:ext cx="854280" cy="134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1" name="Rectangle 47">
            <a:hlinkClick r:id="rId39" action="ppaction://hlinksldjump"/>
          </p:cNvPr>
          <p:cNvSpPr/>
          <p:nvPr/>
        </p:nvSpPr>
        <p:spPr>
          <a:xfrm>
            <a:off x="4929120" y="3198960"/>
            <a:ext cx="854280" cy="134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2" name="Rectangle 48">
            <a:hlinkClick r:id="rId40" action="ppaction://hlinksldjump"/>
          </p:cNvPr>
          <p:cNvSpPr/>
          <p:nvPr/>
        </p:nvSpPr>
        <p:spPr>
          <a:xfrm>
            <a:off x="5894280" y="2344680"/>
            <a:ext cx="85428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3" name="Rectangle 49">
            <a:hlinkClick r:id="rId41" action="ppaction://hlinksldjump"/>
          </p:cNvPr>
          <p:cNvSpPr/>
          <p:nvPr/>
        </p:nvSpPr>
        <p:spPr>
          <a:xfrm>
            <a:off x="6843600" y="2352600"/>
            <a:ext cx="998640" cy="10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4" name="Rectangle 50">
            <a:hlinkClick r:id="rId42" action="ppaction://hlinksldjump"/>
          </p:cNvPr>
          <p:cNvSpPr/>
          <p:nvPr/>
        </p:nvSpPr>
        <p:spPr>
          <a:xfrm>
            <a:off x="7894800" y="2344680"/>
            <a:ext cx="98892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5" name="Rectangle 51">
            <a:hlinkClick r:id="rId43" action="ppaction://hlinksldjump"/>
          </p:cNvPr>
          <p:cNvSpPr/>
          <p:nvPr/>
        </p:nvSpPr>
        <p:spPr>
          <a:xfrm>
            <a:off x="7885080" y="3198960"/>
            <a:ext cx="988920" cy="134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6" name="Rectangle 52">
            <a:hlinkClick r:id="rId44" action="ppaction://hlinksldjump"/>
          </p:cNvPr>
          <p:cNvSpPr/>
          <p:nvPr/>
        </p:nvSpPr>
        <p:spPr>
          <a:xfrm>
            <a:off x="6840360" y="3198960"/>
            <a:ext cx="989280" cy="126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7" name="Rectangle 53">
            <a:hlinkClick r:id="rId45" action="ppaction://hlinksldjump"/>
          </p:cNvPr>
          <p:cNvSpPr/>
          <p:nvPr/>
        </p:nvSpPr>
        <p:spPr>
          <a:xfrm>
            <a:off x="5894280" y="3198960"/>
            <a:ext cx="854280" cy="134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8" name="Rectangle 54">
            <a:hlinkClick r:id="rId46" action="ppaction://hlinksldjump"/>
          </p:cNvPr>
          <p:cNvSpPr/>
          <p:nvPr/>
        </p:nvSpPr>
        <p:spPr>
          <a:xfrm>
            <a:off x="7931160" y="4010040"/>
            <a:ext cx="988920" cy="179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9" name="Rectangle 55">
            <a:hlinkClick r:id="rId47" action="ppaction://hlinksldjump"/>
          </p:cNvPr>
          <p:cNvSpPr/>
          <p:nvPr/>
        </p:nvSpPr>
        <p:spPr>
          <a:xfrm>
            <a:off x="6840360" y="4010040"/>
            <a:ext cx="989280" cy="12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0" name="Rectangle 56">
            <a:hlinkClick r:id="rId48" action="ppaction://hlinksldjump"/>
          </p:cNvPr>
          <p:cNvSpPr/>
          <p:nvPr/>
        </p:nvSpPr>
        <p:spPr>
          <a:xfrm>
            <a:off x="5894280" y="4010040"/>
            <a:ext cx="85428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1" name="Rectangle 57">
            <a:hlinkClick r:id="rId49" action="ppaction://hlinksldjump"/>
          </p:cNvPr>
          <p:cNvSpPr/>
          <p:nvPr/>
        </p:nvSpPr>
        <p:spPr>
          <a:xfrm>
            <a:off x="4884840" y="4010040"/>
            <a:ext cx="85392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2" name="Rectangle 58">
            <a:hlinkClick r:id="rId50" action="ppaction://hlinksldjump"/>
          </p:cNvPr>
          <p:cNvSpPr/>
          <p:nvPr/>
        </p:nvSpPr>
        <p:spPr>
          <a:xfrm>
            <a:off x="3941640" y="4010040"/>
            <a:ext cx="85428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3" name="Rectangle 59">
            <a:hlinkClick r:id="rId51" action="ppaction://hlinksldjump"/>
          </p:cNvPr>
          <p:cNvSpPr/>
          <p:nvPr/>
        </p:nvSpPr>
        <p:spPr>
          <a:xfrm>
            <a:off x="3941640" y="4819680"/>
            <a:ext cx="85428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4" name="Rectangle 60">
            <a:hlinkClick r:id="rId52" action="ppaction://hlinksldjump"/>
          </p:cNvPr>
          <p:cNvSpPr/>
          <p:nvPr/>
        </p:nvSpPr>
        <p:spPr>
          <a:xfrm>
            <a:off x="4929120" y="4819680"/>
            <a:ext cx="85428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5" name="Rectangle 61">
            <a:hlinkClick r:id="rId53" action="ppaction://hlinksldjump"/>
          </p:cNvPr>
          <p:cNvSpPr/>
          <p:nvPr/>
        </p:nvSpPr>
        <p:spPr>
          <a:xfrm>
            <a:off x="5894280" y="4819680"/>
            <a:ext cx="85428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6" name="Rectangle 62">
            <a:hlinkClick r:id="rId54" action="ppaction://hlinksldjump"/>
          </p:cNvPr>
          <p:cNvSpPr/>
          <p:nvPr/>
        </p:nvSpPr>
        <p:spPr>
          <a:xfrm>
            <a:off x="6840360" y="4819680"/>
            <a:ext cx="989280" cy="127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7" name="Rectangle 63">
            <a:hlinkClick r:id="rId55" action="ppaction://hlinksldjump"/>
          </p:cNvPr>
          <p:cNvSpPr/>
          <p:nvPr/>
        </p:nvSpPr>
        <p:spPr>
          <a:xfrm>
            <a:off x="7931160" y="4819680"/>
            <a:ext cx="988920" cy="135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5624640"/>
            <a:ext cx="9144000" cy="1233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8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Когда появился манипулятор типа “мышь”, то для него в русском языке некоторое время использовалось название по имени персонажа известной русской сказки. Назовите имя этого персонажа.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64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Устройства                                                        5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dc78"/>
                </a:solidFill>
                <a:latin typeface="Arial"/>
              </a:rPr>
              <a:t>Службу </a:t>
            </a:r>
            <a:r>
              <a:rPr b="1" lang="en-US" sz="4400" spc="-1" strike="noStrike">
                <a:solidFill>
                  <a:srgbClr val="eadc78"/>
                </a:solidFill>
                <a:latin typeface="Arial"/>
              </a:rPr>
              <a:t>WWW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68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ак называют                                                   1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2570040"/>
            <a:ext cx="822960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На компьютерном жаргоне совокупность аппаратных средств 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71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ак называют                                                    2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Как называется человек - фанат компьютерных игр 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74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ак называют                                                    3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93212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Состояние, в котором включенный компьютер не реагирует на действия пользователя 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77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ак называют                                                    4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Процедура «альтернатива», как ее можно назвать иначе? 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80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ак называют                                                    5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>
            <a:hlinkClick r:id="rId1" action="ppaction://hlinksldjump"/>
          </p:cNvPr>
          <p:cNvSpPr/>
          <p:nvPr/>
        </p:nvSpPr>
        <p:spPr>
          <a:xfrm>
            <a:off x="0" y="5624640"/>
            <a:ext cx="9144000" cy="1233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Овод, диск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1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Антианаграммы                                                 1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2" name="Rectangle 4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49520"/>
            <a:ext cx="8229600" cy="17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Ель, писк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4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Антианаграммы                                                 2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5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226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Грамм, порог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27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Антианаграммы                                                 3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8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76080"/>
            <a:ext cx="8229600" cy="19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Кол, кони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30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Антианаграммы                                                 4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1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55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dc78"/>
                </a:solidFill>
                <a:latin typeface="Arial"/>
              </a:rPr>
              <a:t>Миф, нота, икра</a:t>
            </a:r>
            <a:endParaRPr b="0" lang="en-US" sz="40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233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af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Антианаграммы                                                 500</a:t>
            </a:r>
            <a:endParaRPr b="0" lang="en-US" sz="25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34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07:05:32Z</dcterms:created>
  <dc:creator>ДК</dc:creator>
  <dc:description/>
  <dc:language>en-US</dc:language>
  <cp:lastModifiedBy>Класс 28</cp:lastModifiedBy>
  <dcterms:modified xsi:type="dcterms:W3CDTF">2010-01-31T10:42:33Z</dcterms:modified>
  <cp:revision>42</cp:revision>
  <dc:subject/>
  <dc:title>Слайд 1</dc:title>
</cp:coreProperties>
</file>